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305EF-E993-4018-B753-94A64FBD2D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62333-A23E-4CB2-B4B0-48AF61A602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15ABB-5FE0-4DD3-A3FB-9159AF6F2C4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76E9E-6B5F-447A-9003-A68AF755C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3F996-E75D-4FBA-B4B1-6A4EE6E23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DFDEA-8C3D-4877-8A52-651E1CF4136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07C69-2012-4370-B1AC-0F7887B8C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2615D-721A-45B6-8241-B5FBE71C0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B848F-6A88-4B59-9F76-A7B171C54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D29C6-F02C-4630-8E6F-E6B949A05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C05FF-BAE7-48E4-8FA4-44925D968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58A94-8A7D-48BD-BEED-6E813D4AC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8B730-50E6-4DE5-AC62-830C7ECA7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03FA1-271B-4E9E-B706-F115A0B33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4A21B129-9325-445A-9A44-8C6E79C62850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6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0.0.127.in-addr.arpa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91216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0.0.127.in-addr.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             PTR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CB92E-726F-4BE0-8C6A-F0F8F6D596F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ssembling the fil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ere's my directory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[~/DNS/apricot2003/recursive] edlewis% l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0.127.in-addr.arpa.   localhost.              named.roo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irectory name and file names will be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I create a named.conf file in the same directory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4D6A7-3556-4606-8D81-C4FF9B4CE6A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d.conf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937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irectory "/Users/edlewis/DNS/apricot2003/recursive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pid-file "/Users/edlewis/DNS/apricot2003/recursive/n.pid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recursion yes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hint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named.root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localhost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localhost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0.0.127.in-addr.arpa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0.0.127.in-addr.arpa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C5DB7-E462-44A9-B2FF-C24E9CCE3AA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unn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the directo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udo named -c 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A10D5-9E8E-453A-8597-8AA313BE723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9198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to show it is al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g @127.0.0.1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Courier New"/>
              </a:rPr>
              <a:t>www.arin.ne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 &lt;&lt;&gt;&gt; DiG 9.2.2rc1 &lt;&lt;&gt;&gt; @127.0.0.1 www.arin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lobal options:  printcmd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ot answer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-&gt;&gt;HEADER&lt;&lt;- opcode: QUERY, status: NOERROR, id: 1658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flags: qr rd ra; QUERY: 1, ANSWER: 2, AUTHORITY: 10, ADDITIONAL: 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STION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www.arin.net.                  IN      A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NSWER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7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6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UTHORITY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arin.net.               10800   IN      NS      arrowroot.arin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(and so on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ry time: 3066 msec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SERVER: 127.0.0.1#53(127.0.0.1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WHEN: Wed Feb 19 11:07:05 200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MSG SIZE  rcvd: 25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BFAC0-DD50-4007-828D-16320F2068A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gratulations - Your First Server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's just the beginning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DAF8C-DCD2-441A-81DB-F18D70E741D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i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ot server 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lhos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0.0.127.in-addr.arpa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5AD19-8EFC-4986-ACA8-F41B4D540A7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Used to lookup data by applic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eeds to know how to reach top of D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should stop some queri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, 127.0.0.1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i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root.hint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0.0.127.in-addr.arpa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We'll do named.conf las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582E6-8C3A-4632-83AA-91B72E5C383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oot Server Li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ist of the 13 root serve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re to get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tp rs.internic.n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onymous log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d doma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et one of these files (they are [nearly] the sam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b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roo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67437-24D7-4918-B956-9DF44C2B9BE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t looks lik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holds the information on root name servers needed to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initialize cache of Internet domain name server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(e.g. reference this file in the "cache  .  &lt;file&gt;"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configuration file of BIND domain name servers)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is made available by InterNIC 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under anonymous FTP a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file                /domain/named.cach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on server           FTP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last update:    Nov 5, 2002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related version of root zone:   200211050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formerly NS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IN  NS    A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A.ROOT-SERVERS.NET.      3600000      A     198.41.0.4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...............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housed in Japan, operated by WID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    NS    M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M.ROOT-SERVERS.NET.      3600000      A     202.12.27.3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End of Fil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E8129-872D-487E-85B9-403E66BAEAE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You Do To This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ill include it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real networks, don't change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for learning, we will change i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BF81C-3FAB-4ED0-98A5-5D921B4CDDF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opback name in operating syste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eans 127.0.0.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for this shouldn't use recur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 we will configure a file to define the localhost.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".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12DAC-6EF5-4F3D-ADDD-0A5ACFC9B6D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9426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A 127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B9D7A-1F6A-4EF9-A029-574FA29DDD2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for 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nce we want "localhost -&gt; 127.0.0.1" we want to have "127.0.0.1 -&gt; 127.0.0.1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need a zone called 0.0.127.in-addr.arp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35722-3D41-4B61-8112-7E4AAF5304D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bill manning</dc:creator>
  <dc:description/>
  <dc:language>en-US</dc:language>
  <cp:lastModifiedBy>Marmaduke Wildebeeste</cp:lastModifiedBy>
  <dcterms:modified xsi:type="dcterms:W3CDTF">2003-06-01T20:47:44Z</dcterms:modified>
  <cp:revision>46</cp:revision>
  <dc:subject/>
  <dc:title>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